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6A8-7A44-4531-9133-8BC7A45C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837-5597-41E3-B8BF-2E48CCFE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878-7C1B-4A2C-8BC9-D89518A2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78D-62DD-42E2-8C91-AC6D05CD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F22-4D1C-4931-BA97-164EDDE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F50-2A07-4F4D-9657-64A36EC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F0D-4753-4B00-A259-C61F86A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616-0B43-45FF-B5BF-A8DEB092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855-A338-412E-B477-31AA640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C8B-16B4-4BA1-B479-06B2C69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BF7-2C2C-4D3A-A5F8-1732C56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78D-8392-4140-B6DF-504E012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2844-D9F4-4AB8-A07D-C10A9AB3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52280" y="4572000"/>
            <a:ext cx="121932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52280" y="1600200"/>
            <a:ext cx="121932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52280" y="3581280"/>
            <a:ext cx="121932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52280" y="5562720"/>
            <a:ext cx="121932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152280" y="2590920"/>
            <a:ext cx="121932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371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0574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7432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290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1148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800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4864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722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580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5438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229600" y="1600200"/>
            <a:ext cx="685800" cy="990720"/>
          </a:xfrm>
          <a:prstGeom prst="rect">
            <a:avLst/>
          </a:prstGeom>
          <a:solidFill>
            <a:srgbClr val="6d5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371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0574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7432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290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1148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800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4864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580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8229600" y="2590920"/>
            <a:ext cx="685800" cy="990360"/>
          </a:xfrm>
          <a:prstGeom prst="rect">
            <a:avLst/>
          </a:prstGeom>
          <a:solidFill>
            <a:srgbClr val="f0d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371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0574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432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4290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1148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800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4864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1722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8580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5438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229600" y="3581280"/>
            <a:ext cx="685800" cy="990720"/>
          </a:xfrm>
          <a:prstGeom prst="rect">
            <a:avLst/>
          </a:prstGeom>
          <a:solidFill>
            <a:srgbClr val="9c00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371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0574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7432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290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1148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800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864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8580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5438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229600" y="4572000"/>
            <a:ext cx="685800" cy="990720"/>
          </a:xfrm>
          <a:prstGeom prst="rect">
            <a:avLst/>
          </a:prstGeom>
          <a:solidFill>
            <a:srgbClr val="eb3c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0574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432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4290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48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800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4864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722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580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5438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29600" y="5562720"/>
            <a:ext cx="685800" cy="990360"/>
          </a:xfrm>
          <a:prstGeom prst="rect">
            <a:avLst/>
          </a:prstGeom>
          <a:solidFill>
            <a:srgbClr val="83c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5"/>
          <p:cNvSpPr/>
          <p:nvPr/>
        </p:nvSpPr>
        <p:spPr>
          <a:xfrm>
            <a:off x="1752480" y="152280"/>
            <a:ext cx="5639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acetra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1 square for every correct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42:42Z</dcterms:created>
  <dc:creator>Connie Campbell</dc:creator>
  <dc:description/>
  <dc:language>en-US</dc:language>
  <cp:lastModifiedBy>Caroline Roth</cp:lastModifiedBy>
  <cp:lastPrinted>2011-04-11T04:06:43Z</cp:lastPrinted>
  <dcterms:modified xsi:type="dcterms:W3CDTF">2011-04-11T04:07:28Z</dcterms:modified>
  <cp:revision>20</cp:revision>
  <dc:subject/>
  <dc:title>Slide 1</dc:title>
</cp:coreProperties>
</file>